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CF5E-6A56-4472-9D32-AE30482CF6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C3184-D75C-4C05-871B-C02367FA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48DE8-0F31-4B36-A362-21775011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6AC6-AB84-49F8-AB43-E524416E26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F189A-3343-4D5E-8E65-D7CCAF686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7748C4-0DCE-443A-BDD6-7CB78D91D7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5AB7D-8FF9-431E-8FFF-2C77F0FC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15838-CC90-4066-8F7C-4802EA1F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7E77E-D043-4306-BE40-0F98DFE7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89EAD-BD28-48D7-BC0F-4EE4B8C7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6036-DDC8-4AF2-AA92-BBB0C8B7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17339-7D24-4E5C-B29A-5B522721A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964511-8D4E-4FD6-86B0-D2D24F97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D4E98-05C9-49CF-9D52-B3F17A90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31DAFA-A11B-4B6F-AE1F-2BE5666D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1EAF5-E4BA-4EE3-8422-9E2EBBB9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8CDA98-24AA-4870-8B16-A7F6A920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712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16680" y="148104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712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16680" y="3841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2A654-F1E2-43A0-B416-3168A6ACAA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3945-49B8-45B9-833A-6C1C5A28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A993-EBC3-4E13-820F-0116BE47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AFBE-5850-48F8-B0C9-06312A09A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D2BB3-066B-41B6-9EB4-61D4BFC1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841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6E863-7311-4DE9-9E14-8E1339A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48104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1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1BC3-ED7F-4B8C-8BAE-B2976B67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00800" y="6461280"/>
            <a:ext cx="19130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4049640" y="62643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321760" y="6453360"/>
            <a:ext cx="35712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55228-4BF8-40BE-87FE-8F19143535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5200"/>
              </a:gs>
              <a:gs pos="50000">
                <a:srgbClr val="4f8b4f"/>
              </a:gs>
              <a:gs pos="100000">
                <a:srgbClr val="005200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817560"/>
            <a:ext cx="9144000" cy="105732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0" y="804960"/>
            <a:ext cx="9156600" cy="36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5780160" y="982800"/>
            <a:ext cx="635040" cy="7617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6397560" y="1092240"/>
            <a:ext cx="251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4d00"/>
                </a:solidFill>
                <a:latin typeface="Lucida Grande"/>
              </a:rPr>
              <a:t>Wikispace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0" y="6337440"/>
            <a:ext cx="9144000" cy="520560"/>
          </a:xfrm>
          <a:prstGeom prst="rect">
            <a:avLst/>
          </a:prstGeom>
          <a:gradFill rotWithShape="0">
            <a:gsLst>
              <a:gs pos="0">
                <a:srgbClr val="dfebdf"/>
              </a:gs>
              <a:gs pos="100000">
                <a:srgbClr val="a0bba0"/>
              </a:gs>
            </a:gsLst>
            <a:lin ang="5400000"/>
          </a:gradFill>
          <a:ln w="0">
            <a:noFill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8772480" y="6389640"/>
            <a:ext cx="300240" cy="434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3"/>
          <a:stretch/>
        </p:blipFill>
        <p:spPr>
          <a:xfrm>
            <a:off x="-6480" y="6327720"/>
            <a:ext cx="9156960" cy="36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3"/>
          </p:nvPr>
        </p:nvSpPr>
        <p:spPr>
          <a:xfrm>
            <a:off x="6400800" y="6470280"/>
            <a:ext cx="19130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03/25/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049640" y="626256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4"/>
          </p:nvPr>
        </p:nvSpPr>
        <p:spPr>
          <a:xfrm>
            <a:off x="8321760" y="6468840"/>
            <a:ext cx="357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C8E932-907F-40C2-8E87-B8575AF33768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1d773c"/>
                </a:solidFill>
                <a:latin typeface="Arial"/>
                <a:ea typeface="Arial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  <a:ea typeface="Arial"/>
              </a:rPr>
              <a:t>Wikispaces in K–12 Education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[date and time]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elcome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Read-only Web v. Read/Write Web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iki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Getting Started with Wikispaces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Arial"/>
              </a:rPr>
              <a:t>Wrap-up and Q&amp;A</a:t>
            </a:r>
            <a:endParaRPr b="0" lang="en-US" sz="16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6469560"/>
            <a:ext cx="8686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100" spc="-1" strike="noStrike">
                <a:solidFill>
                  <a:srgbClr val="404040"/>
                </a:solidFill>
                <a:latin typeface="Arial"/>
                <a:ea typeface="Arial"/>
              </a:rPr>
              <a:t>Originally developed by Mark Wagner, Ph.D., President &amp; CEO, EdTechTeam, Inc. </a:t>
            </a:r>
            <a:endParaRPr b="0" lang="en-US" sz="11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1: Evaluate 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ocate an educational wiki relevant to your work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valuate the wiki based on the following criteria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basic description of this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is the intended audience for the wiki and what w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o are the intended contributors for the wiki and what w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does this wiki accomplish something that only a wiki can accomplish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How could you adapt this a model for your own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evaluation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1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ime permitting, explore your classmates’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2: Edit a Wiki Page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o to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2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age on the presentation wiki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ake turns with other participants adding to and editing the page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lay with some of the tools i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or toolbar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3: Creat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ttp://www.wikispaces.com/site/for/teachers/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n Account (if you haven't already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This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Histor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Notification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a New Pag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dit Navig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nage Wiki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y Accou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reate more wikis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ngagement and motiva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ntext-embedded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quiry-driven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 learn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Reflection and metacogni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1</a:t>
            </a:r>
            <a:r>
              <a:rPr b="0" lang="en-US" sz="2000" spc="-1" strike="noStrike" baseline="30000">
                <a:solidFill>
                  <a:srgbClr val="404040"/>
                </a:solidFill>
                <a:latin typeface="Arial"/>
                <a:ea typeface="Arial"/>
              </a:rPr>
              <a:t>st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century skil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Concern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literac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cont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appropriate shar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reats and cyber-bully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tellectual property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Fraud and identity thef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talkers and predato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Lack of understand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flection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most important thing you learned today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are your next steps for using wikis in your work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you want to learn more abou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Q&amp;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Go ahead, ask me anything.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Activity 4: Share Your Own Wiki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st your answers on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Discussion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tab of the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ctivity 4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page in the presentation wiki: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the URL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a basic description of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is the intended audience for the wiki and what should they get out of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o are the intended contributors for the wiki and what should they contribut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5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multi-media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6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other tools have you integrated into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7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is one obstacle or issue you anticipated and how have you addressed it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39720" indent="-365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8.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  What future plans do you have for your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fter the workshop, explore your classmates' evaluations. Reply to three of their post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elcome Activity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1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the read/write web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2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is a wiki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3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at do these things mean for you and your students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4.  </a:t>
            </a:r>
            <a:r>
              <a:rPr b="0" lang="en-US" sz="2000" spc="-1" strike="noStrike">
                <a:solidFill>
                  <a:srgbClr val="1d773c"/>
                </a:solidFill>
                <a:latin typeface="Arial"/>
                <a:ea typeface="Arial"/>
              </a:rPr>
              <a:t>Why are we here?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-only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owerful resource for educators and students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moves from publishers to consumer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nformation cannot be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e-way Web (Web 1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Read/Write Web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t is now as easy to create as it is to consum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nyone can publish, share, and change information onlin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wo-way Web (Web 2.0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This is changing our world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KaiTi"/>
              </a:rPr>
              <a:t>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A wiki is a website that anyone can edit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i="1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If you can use a word processor, you can use a wiki!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see a history of changes and revert to earlier versions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Visitors can discuss the page in a threaded forum.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pedia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nline encyclopedia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and edited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users worldwide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Over 1 million articles in English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eat resource, but…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Use with caution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Educational Wikis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Text Box 1"/>
          <p:cNvSpPr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ollaboratively authored class tex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Writing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oup projec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haring resource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Grade level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Subject area team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development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ofessional Learning Communities (PLC)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ePortfolio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Clubs, PTAs, and event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Mapping of concepts, brainstorming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marL="272880" indent="-2552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•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Presentation tools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5"/>
          <p:cNvSpPr/>
          <p:nvPr/>
        </p:nvSpPr>
        <p:spPr>
          <a:xfrm>
            <a:off x="480960" y="312840"/>
            <a:ext cx="830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1d773c"/>
                </a:solidFill>
                <a:latin typeface="Arial"/>
                <a:ea typeface="Arial"/>
              </a:rPr>
              <a:t>Wiki for This Workshop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457200" y="274680"/>
            <a:ext cx="8229600" cy="57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http://</a:t>
            </a:r>
            <a:r>
              <a:rPr b="0" lang="en-US" sz="4000" spc="-1" strike="noStrike">
                <a:solidFill>
                  <a:srgbClr val="1d773c"/>
                </a:solidFill>
                <a:latin typeface="Arial"/>
                <a:ea typeface="Arial"/>
              </a:rPr>
              <a:t>somewiki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  <a:ea typeface="Arial"/>
              </a:rPr>
              <a:t>.wikispaces.com</a:t>
            </a:r>
            <a:endParaRPr b="0" lang="en-US" sz="4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13:11Z</dcterms:created>
  <dc:creator>Adam Frey</dc:creator>
  <dc:description/>
  <dc:language>en-US</dc:language>
  <cp:lastModifiedBy>Carole</cp:lastModifiedBy>
  <dcterms:modified xsi:type="dcterms:W3CDTF">2010-07-22T18:53:45Z</dcterms:modified>
  <cp:revision>128</cp:revision>
  <dc:subject/>
  <dc:title>Welcome</dc:title>
</cp:coreProperties>
</file>